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5.png" ContentType="image/png"/>
  <Override PartName="/ppt/media/image10.png" ContentType="image/png"/>
  <Override PartName="/ppt/media/image33.jpeg" ContentType="image/jpeg"/>
  <Override PartName="/ppt/media/image30.png" ContentType="image/png"/>
  <Override PartName="/ppt/media/image28.wmf" ContentType="image/x-wmf"/>
  <Override PartName="/ppt/media/image8.png" ContentType="image/png"/>
  <Override PartName="/ppt/media/image13.png" ContentType="image/png"/>
  <Override PartName="/ppt/media/image23.wmf" ContentType="image/x-wmf"/>
  <Override PartName="/ppt/media/image9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34.jpeg" ContentType="image/jpeg"/>
  <Override PartName="/ppt/media/image12.png" ContentType="image/png"/>
  <Override PartName="/ppt/media/image31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2"/>
          </p:nvPr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ctr">
              <a:lnSpc>
                <a:spcPts val="2273"/>
              </a:lnSpc>
              <a:spcBef>
                <a:spcPts val="12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de-DE" sz="2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ts val="2273"/>
              </a:lnSpc>
              <a:spcBef>
                <a:spcPts val="12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E55FDF9-FCEC-4074-8CBF-7B268EBB639B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79DD17-6B31-4B73-8FB8-92908FC4AE5C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ble message signs can be used for waterways with a strong t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y can show the water level, bridge clearance or stream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applications are signalling a temporary shut of a waterway or information about traffic re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DD963BA-2B52-4FF5-A866-128CD5A843CF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BD2FA1-FC6A-4261-BF69-E1835E986DCD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BEF05A-1D89-434A-91AE-ABE1488529BF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14EBF85-A493-4759-9908-BE0595AE7876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EF1FDBA-F92A-40C5-80F7-E1B3E8F0CB3B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EE72746-5695-4221-9B6D-10CB2B0785E9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4A5313-59D6-4197-9B30-E0FC785819A2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8C8B588-D8A6-49C0-9D44-E549FABCC74D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0765B8-6820-419D-9E95-2E6A9E7E1078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309BDB-9D9F-479E-8A26-B4823799FCA6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9BE753-EE4E-4D66-971A-B8B2BD86658B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ampl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ritime wat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 hows the water level and indicates high and low t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 is a tricky combination of rotating tubes with fluorescent lam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C0FBF27-CEA1-4C76-9BA5-C8569E4B7D76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BB74992-BD0C-4D8A-B277-87CB5B473DC8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4BA3B40-9FF4-4CC7-870B-5394071545E7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898B72-B403-4C4E-874A-616AE0B7F127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FEAA08-C295-40E1-BD2D-5F8F8A0A3E57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9CDDA2E-14E2-4077-9C74-28CC9E9FBDFC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2046240" y="868356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ctr">
              <a:lnSpc>
                <a:spcPts val="2273"/>
              </a:lnSpc>
              <a:spcBef>
                <a:spcPts val="1250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C9AAFB-BD1E-4FFA-A932-3A357AB6BB4C}" type="slidenum">
              <a:rPr b="0" lang="de-DE" sz="2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39960" y="380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5936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8560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728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2364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728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2364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11280" y="457200"/>
            <a:ext cx="6734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48560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0920" y="405936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8560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6728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23640" y="159984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092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6728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723640" y="4059360"/>
            <a:ext cx="243432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1280" y="457200"/>
            <a:ext cx="6734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85600" y="405936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5600" y="1599840"/>
            <a:ext cx="368964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59360"/>
            <a:ext cx="756108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GrayBackground"/>
          <p:cNvSpPr/>
          <p:nvPr/>
        </p:nvSpPr>
        <p:spPr>
          <a:xfrm>
            <a:off x="252360" y="1413000"/>
            <a:ext cx="8642520" cy="5256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spcBef>
                <a:spcPts val="799"/>
              </a:spcBef>
              <a:buClr>
                <a:srgbClr val="16489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spcBef>
                <a:spcPts val="799"/>
              </a:spcBef>
              <a:buClr>
                <a:srgbClr val="16489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12" descr="WSV_RGB_M"/>
          <p:cNvPicPr/>
          <p:nvPr/>
        </p:nvPicPr>
        <p:blipFill>
          <a:blip r:embed="rId2"/>
          <a:stretch/>
        </p:blipFill>
        <p:spPr>
          <a:xfrm>
            <a:off x="7488360" y="343080"/>
            <a:ext cx="698400" cy="63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hpGrayBackground"/>
          <p:cNvSpPr/>
          <p:nvPr/>
        </p:nvSpPr>
        <p:spPr>
          <a:xfrm>
            <a:off x="252360" y="1413000"/>
            <a:ext cx="8642520" cy="5256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12" descr="WSV_RGB_M"/>
          <p:cNvPicPr/>
          <p:nvPr/>
        </p:nvPicPr>
        <p:blipFill>
          <a:blip r:embed="rId2"/>
          <a:stretch/>
        </p:blipFill>
        <p:spPr>
          <a:xfrm>
            <a:off x="7488360" y="343080"/>
            <a:ext cx="698400" cy="634680"/>
          </a:xfrm>
          <a:prstGeom prst="rect">
            <a:avLst/>
          </a:prstGeom>
          <a:ln w="0">
            <a:noFill/>
          </a:ln>
        </p:spPr>
      </p:pic>
      <p:grpSp>
        <p:nvGrpSpPr>
          <p:cNvPr id="42" name="*GRIDLINE01*"/>
          <p:cNvGrpSpPr/>
          <p:nvPr/>
        </p:nvGrpSpPr>
        <p:grpSpPr>
          <a:xfrm>
            <a:off x="252360" y="404640"/>
            <a:ext cx="8638920" cy="6262920"/>
            <a:chOff x="252360" y="404640"/>
            <a:chExt cx="8638920" cy="6262920"/>
          </a:xfrm>
        </p:grpSpPr>
        <p:sp>
          <p:nvSpPr>
            <p:cNvPr id="43" name="*GRIDLINE01*Rectangle 210" hidden="1"/>
            <p:cNvSpPr/>
            <p:nvPr/>
          </p:nvSpPr>
          <p:spPr>
            <a:xfrm>
              <a:off x="658836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*GRIDLINE01*Rectangle 211" hidden="1"/>
            <p:cNvSpPr/>
            <p:nvPr/>
          </p:nvSpPr>
          <p:spPr>
            <a:xfrm>
              <a:off x="7380360" y="515772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*GRIDLINE01*Rectangle 212" hidden="1"/>
            <p:cNvSpPr/>
            <p:nvPr/>
          </p:nvSpPr>
          <p:spPr>
            <a:xfrm>
              <a:off x="1836360" y="515772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*GRIDLINE01*Rectangle 213" hidden="1"/>
            <p:cNvSpPr/>
            <p:nvPr/>
          </p:nvSpPr>
          <p:spPr>
            <a:xfrm>
              <a:off x="252360" y="515772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*GRIDLINE01*Rectangle 214" hidden="1"/>
            <p:cNvSpPr/>
            <p:nvPr/>
          </p:nvSpPr>
          <p:spPr>
            <a:xfrm>
              <a:off x="104400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*GRIDLINE01*Rectangle 215" hidden="1"/>
            <p:cNvSpPr/>
            <p:nvPr/>
          </p:nvSpPr>
          <p:spPr>
            <a:xfrm>
              <a:off x="262800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*GRIDLINE01*Rectangle 216" hidden="1"/>
            <p:cNvSpPr/>
            <p:nvPr/>
          </p:nvSpPr>
          <p:spPr>
            <a:xfrm>
              <a:off x="3420360" y="515772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*GRIDLINE01*Rectangle 217" hidden="1"/>
            <p:cNvSpPr/>
            <p:nvPr/>
          </p:nvSpPr>
          <p:spPr>
            <a:xfrm>
              <a:off x="421236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*GRIDLINE01*Rectangle 218" hidden="1"/>
            <p:cNvSpPr/>
            <p:nvPr/>
          </p:nvSpPr>
          <p:spPr>
            <a:xfrm>
              <a:off x="500400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*GRIDLINE01*Rectangle 219" hidden="1"/>
            <p:cNvSpPr/>
            <p:nvPr/>
          </p:nvSpPr>
          <p:spPr>
            <a:xfrm>
              <a:off x="579636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*GRIDLINE01*Rectangle 220" hidden="1"/>
            <p:cNvSpPr/>
            <p:nvPr/>
          </p:nvSpPr>
          <p:spPr>
            <a:xfrm>
              <a:off x="8172360" y="515772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*GRIDLINE01*Rectangle 221" hidden="1"/>
            <p:cNvSpPr/>
            <p:nvPr/>
          </p:nvSpPr>
          <p:spPr>
            <a:xfrm>
              <a:off x="658836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*GRIDLINE01*Rectangle 222" hidden="1"/>
            <p:cNvSpPr/>
            <p:nvPr/>
          </p:nvSpPr>
          <p:spPr>
            <a:xfrm>
              <a:off x="7380360" y="40464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*GRIDLINE01*Rectangle 223" hidden="1"/>
            <p:cNvSpPr/>
            <p:nvPr/>
          </p:nvSpPr>
          <p:spPr>
            <a:xfrm>
              <a:off x="1836360" y="40464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*GRIDLINE01*Rectangle 224" hidden="1"/>
            <p:cNvSpPr/>
            <p:nvPr/>
          </p:nvSpPr>
          <p:spPr>
            <a:xfrm>
              <a:off x="252360" y="40464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*GRIDLINE01*Rectangle 225" hidden="1"/>
            <p:cNvSpPr/>
            <p:nvPr/>
          </p:nvSpPr>
          <p:spPr>
            <a:xfrm>
              <a:off x="104400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*GRIDLINE01*Rectangle 226" hidden="1"/>
            <p:cNvSpPr/>
            <p:nvPr/>
          </p:nvSpPr>
          <p:spPr>
            <a:xfrm>
              <a:off x="262800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*GRIDLINE01*Rectangle 227" hidden="1"/>
            <p:cNvSpPr/>
            <p:nvPr/>
          </p:nvSpPr>
          <p:spPr>
            <a:xfrm>
              <a:off x="3420360" y="40464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*GRIDLINE01*Rectangle 228" hidden="1"/>
            <p:cNvSpPr/>
            <p:nvPr/>
          </p:nvSpPr>
          <p:spPr>
            <a:xfrm>
              <a:off x="421236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*GRIDLINE01*Rectangle 229" hidden="1"/>
            <p:cNvSpPr/>
            <p:nvPr/>
          </p:nvSpPr>
          <p:spPr>
            <a:xfrm>
              <a:off x="500400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*GRIDLINE01*Rectangle 230" hidden="1"/>
            <p:cNvSpPr/>
            <p:nvPr/>
          </p:nvSpPr>
          <p:spPr>
            <a:xfrm>
              <a:off x="579636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*GRIDLINE01*Rectangle 231" hidden="1"/>
            <p:cNvSpPr/>
            <p:nvPr/>
          </p:nvSpPr>
          <p:spPr>
            <a:xfrm>
              <a:off x="8172360" y="40464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*GRIDLINE01*Rectangle 232" hidden="1"/>
            <p:cNvSpPr/>
            <p:nvPr/>
          </p:nvSpPr>
          <p:spPr>
            <a:xfrm>
              <a:off x="658836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*GRIDLINE01*Rectangle 233" hidden="1"/>
            <p:cNvSpPr/>
            <p:nvPr/>
          </p:nvSpPr>
          <p:spPr>
            <a:xfrm>
              <a:off x="7380360" y="1197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*GRIDLINE01*Rectangle 234" hidden="1"/>
            <p:cNvSpPr/>
            <p:nvPr/>
          </p:nvSpPr>
          <p:spPr>
            <a:xfrm>
              <a:off x="1836360" y="1197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*GRIDLINE01*Rectangle 235" hidden="1"/>
            <p:cNvSpPr/>
            <p:nvPr/>
          </p:nvSpPr>
          <p:spPr>
            <a:xfrm>
              <a:off x="252360" y="1197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*GRIDLINE01*Rectangle 236" hidden="1"/>
            <p:cNvSpPr/>
            <p:nvPr/>
          </p:nvSpPr>
          <p:spPr>
            <a:xfrm>
              <a:off x="104400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*GRIDLINE01*Rectangle 237" hidden="1"/>
            <p:cNvSpPr/>
            <p:nvPr/>
          </p:nvSpPr>
          <p:spPr>
            <a:xfrm>
              <a:off x="262800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*GRIDLINE01*Rectangle 238" hidden="1"/>
            <p:cNvSpPr/>
            <p:nvPr/>
          </p:nvSpPr>
          <p:spPr>
            <a:xfrm>
              <a:off x="3420360" y="1197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*GRIDLINE01*Rectangle 239" hidden="1"/>
            <p:cNvSpPr/>
            <p:nvPr/>
          </p:nvSpPr>
          <p:spPr>
            <a:xfrm>
              <a:off x="421236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*GRIDLINE01*Rectangle 240" hidden="1"/>
            <p:cNvSpPr/>
            <p:nvPr/>
          </p:nvSpPr>
          <p:spPr>
            <a:xfrm>
              <a:off x="500400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*GRIDLINE01*Rectangle 241" hidden="1"/>
            <p:cNvSpPr/>
            <p:nvPr/>
          </p:nvSpPr>
          <p:spPr>
            <a:xfrm>
              <a:off x="579636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*GRIDLINE01*Rectangle 242" hidden="1"/>
            <p:cNvSpPr/>
            <p:nvPr/>
          </p:nvSpPr>
          <p:spPr>
            <a:xfrm>
              <a:off x="8172360" y="1197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*GRIDLINE01*Rectangle 243" hidden="1"/>
            <p:cNvSpPr/>
            <p:nvPr/>
          </p:nvSpPr>
          <p:spPr>
            <a:xfrm>
              <a:off x="658836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*GRIDLINE01*Rectangle 244" hidden="1"/>
            <p:cNvSpPr/>
            <p:nvPr/>
          </p:nvSpPr>
          <p:spPr>
            <a:xfrm>
              <a:off x="7380360" y="1989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*GRIDLINE01*Rectangle 245" hidden="1"/>
            <p:cNvSpPr/>
            <p:nvPr/>
          </p:nvSpPr>
          <p:spPr>
            <a:xfrm>
              <a:off x="1836360" y="1989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*GRIDLINE01*Rectangle 246" hidden="1"/>
            <p:cNvSpPr/>
            <p:nvPr/>
          </p:nvSpPr>
          <p:spPr>
            <a:xfrm>
              <a:off x="252360" y="1989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*GRIDLINE01*Rectangle 247" hidden="1"/>
            <p:cNvSpPr/>
            <p:nvPr/>
          </p:nvSpPr>
          <p:spPr>
            <a:xfrm>
              <a:off x="104400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*GRIDLINE01*Rectangle 248" hidden="1"/>
            <p:cNvSpPr/>
            <p:nvPr/>
          </p:nvSpPr>
          <p:spPr>
            <a:xfrm>
              <a:off x="262800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*GRIDLINE01*Rectangle 249" hidden="1"/>
            <p:cNvSpPr/>
            <p:nvPr/>
          </p:nvSpPr>
          <p:spPr>
            <a:xfrm>
              <a:off x="3420360" y="198900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*GRIDLINE01*Rectangle 250" hidden="1"/>
            <p:cNvSpPr/>
            <p:nvPr/>
          </p:nvSpPr>
          <p:spPr>
            <a:xfrm>
              <a:off x="421236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*GRIDLINE01*Rectangle 251" hidden="1"/>
            <p:cNvSpPr/>
            <p:nvPr/>
          </p:nvSpPr>
          <p:spPr>
            <a:xfrm>
              <a:off x="500400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*GRIDLINE01*Rectangle 252" hidden="1"/>
            <p:cNvSpPr/>
            <p:nvPr/>
          </p:nvSpPr>
          <p:spPr>
            <a:xfrm>
              <a:off x="579636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*GRIDLINE01*Rectangle 253" hidden="1"/>
            <p:cNvSpPr/>
            <p:nvPr/>
          </p:nvSpPr>
          <p:spPr>
            <a:xfrm>
              <a:off x="8172360" y="198900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*GRIDLINE01*Rectangle 254" hidden="1"/>
            <p:cNvSpPr/>
            <p:nvPr/>
          </p:nvSpPr>
          <p:spPr>
            <a:xfrm>
              <a:off x="658836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*GRIDLINE01*Rectangle 255" hidden="1"/>
            <p:cNvSpPr/>
            <p:nvPr/>
          </p:nvSpPr>
          <p:spPr>
            <a:xfrm>
              <a:off x="7380360" y="278136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*GRIDLINE01*Rectangle 256" hidden="1"/>
            <p:cNvSpPr/>
            <p:nvPr/>
          </p:nvSpPr>
          <p:spPr>
            <a:xfrm>
              <a:off x="1836360" y="278136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*GRIDLINE01*Rectangle 257" hidden="1"/>
            <p:cNvSpPr/>
            <p:nvPr/>
          </p:nvSpPr>
          <p:spPr>
            <a:xfrm>
              <a:off x="252360" y="278136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*GRIDLINE01*Rectangle 258" hidden="1"/>
            <p:cNvSpPr/>
            <p:nvPr/>
          </p:nvSpPr>
          <p:spPr>
            <a:xfrm>
              <a:off x="104400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*GRIDLINE01*Rectangle 259" hidden="1"/>
            <p:cNvSpPr/>
            <p:nvPr/>
          </p:nvSpPr>
          <p:spPr>
            <a:xfrm>
              <a:off x="262800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*GRIDLINE01*Rectangle 260" hidden="1"/>
            <p:cNvSpPr/>
            <p:nvPr/>
          </p:nvSpPr>
          <p:spPr>
            <a:xfrm>
              <a:off x="3420360" y="278136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*GRIDLINE01*Rectangle 261" hidden="1"/>
            <p:cNvSpPr/>
            <p:nvPr/>
          </p:nvSpPr>
          <p:spPr>
            <a:xfrm>
              <a:off x="421236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*GRIDLINE01*Rectangle 262" hidden="1"/>
            <p:cNvSpPr/>
            <p:nvPr/>
          </p:nvSpPr>
          <p:spPr>
            <a:xfrm>
              <a:off x="500400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*GRIDLINE01*Rectangle 263" hidden="1"/>
            <p:cNvSpPr/>
            <p:nvPr/>
          </p:nvSpPr>
          <p:spPr>
            <a:xfrm>
              <a:off x="579636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*GRIDLINE01*Rectangle 264" hidden="1"/>
            <p:cNvSpPr/>
            <p:nvPr/>
          </p:nvSpPr>
          <p:spPr>
            <a:xfrm>
              <a:off x="8172360" y="278136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*GRIDLINE01*Rectangle 265" hidden="1"/>
            <p:cNvSpPr/>
            <p:nvPr/>
          </p:nvSpPr>
          <p:spPr>
            <a:xfrm>
              <a:off x="658836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*GRIDLINE01*Rectangle 266" hidden="1"/>
            <p:cNvSpPr/>
            <p:nvPr/>
          </p:nvSpPr>
          <p:spPr>
            <a:xfrm>
              <a:off x="7380360" y="357336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*GRIDLINE01*Rectangle 267" hidden="1"/>
            <p:cNvSpPr/>
            <p:nvPr/>
          </p:nvSpPr>
          <p:spPr>
            <a:xfrm>
              <a:off x="1836360" y="357336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*GRIDLINE01*Rectangle 268" hidden="1"/>
            <p:cNvSpPr/>
            <p:nvPr/>
          </p:nvSpPr>
          <p:spPr>
            <a:xfrm>
              <a:off x="252360" y="357336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*GRIDLINE01*Rectangle 269" hidden="1"/>
            <p:cNvSpPr/>
            <p:nvPr/>
          </p:nvSpPr>
          <p:spPr>
            <a:xfrm>
              <a:off x="104400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*GRIDLINE01*Rectangle 270" hidden="1"/>
            <p:cNvSpPr/>
            <p:nvPr/>
          </p:nvSpPr>
          <p:spPr>
            <a:xfrm>
              <a:off x="262800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*GRIDLINE01*Rectangle 271" hidden="1"/>
            <p:cNvSpPr/>
            <p:nvPr/>
          </p:nvSpPr>
          <p:spPr>
            <a:xfrm>
              <a:off x="3420360" y="357336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*GRIDLINE01*Rectangle 272" hidden="1"/>
            <p:cNvSpPr/>
            <p:nvPr/>
          </p:nvSpPr>
          <p:spPr>
            <a:xfrm>
              <a:off x="421236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*GRIDLINE01*Rectangle 273" hidden="1"/>
            <p:cNvSpPr/>
            <p:nvPr/>
          </p:nvSpPr>
          <p:spPr>
            <a:xfrm>
              <a:off x="500400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*GRIDLINE01*Rectangle 274" hidden="1"/>
            <p:cNvSpPr/>
            <p:nvPr/>
          </p:nvSpPr>
          <p:spPr>
            <a:xfrm>
              <a:off x="579636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*GRIDLINE01*Rectangle 275" hidden="1"/>
            <p:cNvSpPr/>
            <p:nvPr/>
          </p:nvSpPr>
          <p:spPr>
            <a:xfrm>
              <a:off x="8172360" y="357336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*GRIDLINE01*Rectangle 276" hidden="1"/>
            <p:cNvSpPr/>
            <p:nvPr/>
          </p:nvSpPr>
          <p:spPr>
            <a:xfrm>
              <a:off x="658836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*GRIDLINE01*Rectangle 277" hidden="1"/>
            <p:cNvSpPr/>
            <p:nvPr/>
          </p:nvSpPr>
          <p:spPr>
            <a:xfrm>
              <a:off x="7380360" y="436572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*GRIDLINE01*Rectangle 278" hidden="1"/>
            <p:cNvSpPr/>
            <p:nvPr/>
          </p:nvSpPr>
          <p:spPr>
            <a:xfrm>
              <a:off x="1836360" y="436572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*GRIDLINE01*Rectangle 279" hidden="1"/>
            <p:cNvSpPr/>
            <p:nvPr/>
          </p:nvSpPr>
          <p:spPr>
            <a:xfrm>
              <a:off x="252360" y="436572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*GRIDLINE01*Rectangle 280" hidden="1"/>
            <p:cNvSpPr/>
            <p:nvPr/>
          </p:nvSpPr>
          <p:spPr>
            <a:xfrm>
              <a:off x="104400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*GRIDLINE01*Rectangle 281" hidden="1"/>
            <p:cNvSpPr/>
            <p:nvPr/>
          </p:nvSpPr>
          <p:spPr>
            <a:xfrm>
              <a:off x="262800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*GRIDLINE01*Rectangle 282" hidden="1"/>
            <p:cNvSpPr/>
            <p:nvPr/>
          </p:nvSpPr>
          <p:spPr>
            <a:xfrm>
              <a:off x="3420360" y="4365720"/>
              <a:ext cx="71856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*GRIDLINE01*Rectangle 283" hidden="1"/>
            <p:cNvSpPr/>
            <p:nvPr/>
          </p:nvSpPr>
          <p:spPr>
            <a:xfrm>
              <a:off x="421236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*GRIDLINE01*Rectangle 284" hidden="1"/>
            <p:cNvSpPr/>
            <p:nvPr/>
          </p:nvSpPr>
          <p:spPr>
            <a:xfrm>
              <a:off x="500400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*GRIDLINE01*Rectangle 285" hidden="1"/>
            <p:cNvSpPr/>
            <p:nvPr/>
          </p:nvSpPr>
          <p:spPr>
            <a:xfrm>
              <a:off x="579636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*GRIDLINE01*Rectangle 286" hidden="1"/>
            <p:cNvSpPr/>
            <p:nvPr/>
          </p:nvSpPr>
          <p:spPr>
            <a:xfrm>
              <a:off x="8172360" y="4365720"/>
              <a:ext cx="718920" cy="71892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*GRIDLINE01*Rectangle 287" hidden="1"/>
            <p:cNvSpPr/>
            <p:nvPr/>
          </p:nvSpPr>
          <p:spPr>
            <a:xfrm>
              <a:off x="658836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*GRIDLINE01*Rectangle 288" hidden="1"/>
            <p:cNvSpPr/>
            <p:nvPr/>
          </p:nvSpPr>
          <p:spPr>
            <a:xfrm>
              <a:off x="7380360" y="594828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*GRIDLINE01*Rectangle 289" hidden="1"/>
            <p:cNvSpPr/>
            <p:nvPr/>
          </p:nvSpPr>
          <p:spPr>
            <a:xfrm>
              <a:off x="1836360" y="594828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*GRIDLINE01*Rectangle 290" hidden="1"/>
            <p:cNvSpPr/>
            <p:nvPr/>
          </p:nvSpPr>
          <p:spPr>
            <a:xfrm>
              <a:off x="25344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*GRIDLINE01*Rectangle 291" hidden="1"/>
            <p:cNvSpPr/>
            <p:nvPr/>
          </p:nvSpPr>
          <p:spPr>
            <a:xfrm>
              <a:off x="104400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*GRIDLINE01*Rectangle 292" hidden="1"/>
            <p:cNvSpPr/>
            <p:nvPr/>
          </p:nvSpPr>
          <p:spPr>
            <a:xfrm>
              <a:off x="262800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*GRIDLINE01*Rectangle 293" hidden="1"/>
            <p:cNvSpPr/>
            <p:nvPr/>
          </p:nvSpPr>
          <p:spPr>
            <a:xfrm>
              <a:off x="3420360" y="5948280"/>
              <a:ext cx="71856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*GRIDLINE01*Rectangle 294" hidden="1"/>
            <p:cNvSpPr/>
            <p:nvPr/>
          </p:nvSpPr>
          <p:spPr>
            <a:xfrm>
              <a:off x="421236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*GRIDLINE01*Rectangle 295" hidden="1"/>
            <p:cNvSpPr/>
            <p:nvPr/>
          </p:nvSpPr>
          <p:spPr>
            <a:xfrm>
              <a:off x="500400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*GRIDLINE01*Rectangle 296" hidden="1"/>
            <p:cNvSpPr/>
            <p:nvPr/>
          </p:nvSpPr>
          <p:spPr>
            <a:xfrm>
              <a:off x="579636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*GRIDLINE01*Rectangle 297" hidden="1"/>
            <p:cNvSpPr/>
            <p:nvPr/>
          </p:nvSpPr>
          <p:spPr>
            <a:xfrm>
              <a:off x="8172360" y="5948280"/>
              <a:ext cx="718920" cy="719280"/>
            </a:xfrm>
            <a:prstGeom prst="rect">
              <a:avLst/>
            </a:prstGeom>
            <a:solidFill>
              <a:srgbClr val="e6f2f3"/>
            </a:solidFill>
            <a:ln w="9360">
              <a:solidFill>
                <a:srgbClr val="e6f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2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spcBef>
                <a:spcPts val="799"/>
              </a:spcBef>
              <a:buClr>
                <a:srgbClr val="16489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spcBef>
                <a:spcPts val="799"/>
              </a:spcBef>
              <a:buClr>
                <a:srgbClr val="16489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4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al.de/" TargetMode="External"/><Relationship Id="rId2" Type="http://schemas.openxmlformats.org/officeDocument/2006/relationships/hyperlink" Target="http://www.relux.biz/" TargetMode="External"/><Relationship Id="rId3" Type="http://schemas.openxmlformats.org/officeDocument/2006/relationships/hyperlink" Target="http://www.visual-3d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6"/>
          <p:cNvSpPr/>
          <p:nvPr/>
        </p:nvSpPr>
        <p:spPr>
          <a:xfrm>
            <a:off x="252360" y="2421000"/>
            <a:ext cx="2305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2360" y="476280"/>
            <a:ext cx="590544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Calculation of Ligh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impress4"/>
          <p:cNvPicPr/>
          <p:nvPr/>
        </p:nvPicPr>
        <p:blipFill>
          <a:blip r:embed="rId1"/>
          <a:stretch/>
        </p:blipFill>
        <p:spPr>
          <a:xfrm>
            <a:off x="252360" y="5121360"/>
            <a:ext cx="2338560" cy="1547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1763640" y="5121360"/>
            <a:ext cx="7164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52360" y="5877000"/>
            <a:ext cx="2305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971640" y="5121360"/>
            <a:ext cx="7128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2360" y="5084640"/>
            <a:ext cx="2305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2557440" y="1413000"/>
            <a:ext cx="6984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700360" y="6237360"/>
            <a:ext cx="6048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nk Hermann, German Waterways and Shipping Administr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7" descr="Step4-frame"/>
          <p:cNvPicPr/>
          <p:nvPr/>
        </p:nvPicPr>
        <p:blipFill>
          <a:blip r:embed="rId2"/>
          <a:srcRect l="29742" t="0" r="37363" b="18506"/>
          <a:stretch/>
        </p:blipFill>
        <p:spPr>
          <a:xfrm>
            <a:off x="3132000" y="2205000"/>
            <a:ext cx="1684440" cy="324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8" descr="Step5c"/>
          <p:cNvPicPr/>
          <p:nvPr/>
        </p:nvPicPr>
        <p:blipFill>
          <a:blip r:embed="rId3"/>
          <a:stretch/>
        </p:blipFill>
        <p:spPr>
          <a:xfrm>
            <a:off x="5003640" y="1557360"/>
            <a:ext cx="3311640" cy="219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9" descr="Step7a"/>
          <p:cNvPicPr/>
          <p:nvPr/>
        </p:nvPicPr>
        <p:blipFill>
          <a:blip r:embed="rId4"/>
          <a:stretch/>
        </p:blipFill>
        <p:spPr>
          <a:xfrm>
            <a:off x="5508720" y="3860640"/>
            <a:ext cx="2368440" cy="207504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"/>
          <p:cNvSpPr/>
          <p:nvPr/>
        </p:nvSpPr>
        <p:spPr>
          <a:xfrm>
            <a:off x="357120" y="1542960"/>
            <a:ext cx="19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llum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5"/>
          <a:stretch/>
        </p:blipFill>
        <p:spPr>
          <a:xfrm>
            <a:off x="358920" y="2701800"/>
            <a:ext cx="2125440" cy="210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uminair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Step2a"/>
          <p:cNvPicPr/>
          <p:nvPr/>
        </p:nvPicPr>
        <p:blipFill>
          <a:blip r:embed="rId1"/>
          <a:stretch/>
        </p:blipFill>
        <p:spPr>
          <a:xfrm>
            <a:off x="3924360" y="3282840"/>
            <a:ext cx="4789440" cy="3171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103640" cy="40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: Ren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Step2c"/>
          <p:cNvPicPr/>
          <p:nvPr/>
        </p:nvPicPr>
        <p:blipFill>
          <a:blip r:embed="rId1"/>
          <a:stretch/>
        </p:blipFill>
        <p:spPr>
          <a:xfrm>
            <a:off x="468360" y="1557360"/>
            <a:ext cx="4645080" cy="3076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Step3-texture"/>
          <p:cNvPicPr/>
          <p:nvPr/>
        </p:nvPicPr>
        <p:blipFill>
          <a:blip r:embed="rId2"/>
          <a:stretch/>
        </p:blipFill>
        <p:spPr>
          <a:xfrm>
            <a:off x="4572000" y="3375000"/>
            <a:ext cx="4149720" cy="311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: Illuminance (LUX isoli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359080" cy="4608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344680" cy="4578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6372360" y="1628640"/>
            <a:ext cx="2381040" cy="46497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1038960" y="6251400"/>
            <a:ext cx="732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4080240" y="6251400"/>
            <a:ext cx="697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7061400" y="6251400"/>
            <a:ext cx="496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: Illuminance (LUX char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3336840" y="1628640"/>
            <a:ext cx="2470320" cy="4824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523800" y="1628640"/>
            <a:ext cx="2471760" cy="4824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6191280" y="1658880"/>
            <a:ext cx="2455920" cy="47944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1045080" y="6237360"/>
            <a:ext cx="732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851280" y="6237360"/>
            <a:ext cx="1008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6804000" y="6237360"/>
            <a:ext cx="792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: Luminance (Candela/m² isoli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045080" y="6237360"/>
            <a:ext cx="732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851280" y="6237360"/>
            <a:ext cx="1008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804000" y="6237360"/>
            <a:ext cx="792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2471400" cy="4826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2"/>
          <a:stretch/>
        </p:blipFill>
        <p:spPr>
          <a:xfrm>
            <a:off x="576360" y="1628640"/>
            <a:ext cx="2455920" cy="4794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"/>
          <p:cNvPicPr/>
          <p:nvPr/>
        </p:nvPicPr>
        <p:blipFill>
          <a:blip r:embed="rId3"/>
          <a:stretch/>
        </p:blipFill>
        <p:spPr>
          <a:xfrm>
            <a:off x="6443640" y="1628640"/>
            <a:ext cx="2419200" cy="472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: Luminance (Candela/m² isoli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045080" y="6237360"/>
            <a:ext cx="732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51280" y="6237360"/>
            <a:ext cx="1008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6804000" y="6237360"/>
            <a:ext cx="792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705040" cy="4248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703240" cy="4248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"/>
          <p:cNvPicPr/>
          <p:nvPr/>
        </p:nvPicPr>
        <p:blipFill>
          <a:blip r:embed="rId3"/>
          <a:stretch/>
        </p:blipFill>
        <p:spPr>
          <a:xfrm>
            <a:off x="6300720" y="1628640"/>
            <a:ext cx="2705040" cy="42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itime Buil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Step4-frame"/>
          <p:cNvPicPr/>
          <p:nvPr/>
        </p:nvPicPr>
        <p:blipFill>
          <a:blip r:embed="rId1"/>
          <a:srcRect l="16463" t="0" r="17718" b="22861"/>
          <a:stretch/>
        </p:blipFill>
        <p:spPr>
          <a:xfrm>
            <a:off x="971640" y="1484280"/>
            <a:ext cx="2376360" cy="2162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Step5b"/>
          <p:cNvPicPr/>
          <p:nvPr/>
        </p:nvPicPr>
        <p:blipFill>
          <a:blip r:embed="rId2"/>
          <a:stretch/>
        </p:blipFill>
        <p:spPr>
          <a:xfrm>
            <a:off x="4572000" y="1484280"/>
            <a:ext cx="3743280" cy="2479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Step5c"/>
          <p:cNvPicPr/>
          <p:nvPr/>
        </p:nvPicPr>
        <p:blipFill>
          <a:blip r:embed="rId3"/>
          <a:stretch/>
        </p:blipFill>
        <p:spPr>
          <a:xfrm>
            <a:off x="4572000" y="4076640"/>
            <a:ext cx="3745080" cy="2479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tep7b"/>
          <p:cNvPicPr/>
          <p:nvPr/>
        </p:nvPicPr>
        <p:blipFill>
          <a:blip r:embed="rId4"/>
          <a:srcRect l="0" t="5528" r="0" b="0"/>
          <a:stretch/>
        </p:blipFill>
        <p:spPr>
          <a:xfrm>
            <a:off x="684360" y="3933720"/>
            <a:ext cx="3166920" cy="262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LHwithLight1"/>
          <p:cNvPicPr/>
          <p:nvPr/>
        </p:nvPicPr>
        <p:blipFill>
          <a:blip r:embed="rId1"/>
          <a:srcRect l="14111" t="0" r="5888" b="0"/>
          <a:stretch/>
        </p:blipFill>
        <p:spPr>
          <a:xfrm>
            <a:off x="468360" y="1700280"/>
            <a:ext cx="4895640" cy="47512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8"/>
          <p:cNvSpPr/>
          <p:nvPr/>
        </p:nvSpPr>
        <p:spPr>
          <a:xfrm>
            <a:off x="6134040" y="1700280"/>
            <a:ext cx="22366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gh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uminous intensity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6306480" y="3716280"/>
            <a:ext cx="1789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lluminated are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uminanc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ndela/Metres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ze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etres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lluminated area as a rival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LHwithLight0"/>
          <p:cNvPicPr/>
          <p:nvPr/>
        </p:nvPicPr>
        <p:blipFill>
          <a:blip r:embed="rId1"/>
          <a:stretch/>
        </p:blipFill>
        <p:spPr>
          <a:xfrm>
            <a:off x="395280" y="1557360"/>
            <a:ext cx="3600360" cy="2797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LHwithLight0"/>
          <p:cNvPicPr/>
          <p:nvPr/>
        </p:nvPicPr>
        <p:blipFill>
          <a:blip r:embed="rId2"/>
          <a:stretch/>
        </p:blipFill>
        <p:spPr>
          <a:xfrm>
            <a:off x="3780000" y="4076640"/>
            <a:ext cx="2087280" cy="1622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LHwithLight0"/>
          <p:cNvPicPr/>
          <p:nvPr/>
        </p:nvPicPr>
        <p:blipFill>
          <a:blip r:embed="rId3"/>
          <a:stretch/>
        </p:blipFill>
        <p:spPr>
          <a:xfrm>
            <a:off x="5724360" y="5516640"/>
            <a:ext cx="792360" cy="615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5156640" y="2276640"/>
            <a:ext cx="354708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om far distanc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lluminated area appears as a spo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th intensity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= A*L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d becomes a rival l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unter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d the illuminated area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d choo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&gt;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*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e.g.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 10*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parate the illuminated area from the top ligh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e.g. 5 arcminute for largest viewing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ip the light (for port entrance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illumination should then correspond to IALA system: red and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673416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9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4824360" cy="2761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"/>
          <p:cNvPicPr/>
          <p:nvPr/>
        </p:nvPicPr>
        <p:blipFill>
          <a:blip r:embed="rId2"/>
          <a:stretch/>
        </p:blipFill>
        <p:spPr>
          <a:xfrm>
            <a:off x="4067280" y="4869000"/>
            <a:ext cx="4464000" cy="798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1"/>
          <p:cNvSpPr/>
          <p:nvPr/>
        </p:nvSpPr>
        <p:spPr>
          <a:xfrm>
            <a:off x="987480" y="6165720"/>
            <a:ext cx="7167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aken from: ‚Grundlagen der Lichttechnik‘ Dietrich Gall – (fundamentals of light technolog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ght is a huge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earth_lights_lrg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k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11280" y="1700280"/>
            <a:ext cx="4681440" cy="460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aa3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443640" y="1700280"/>
            <a:ext cx="1513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aa3039"/>
                </a:solidFill>
                <a:latin typeface="Arial"/>
              </a:rPr>
              <a:t>Illum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 flipH="1">
            <a:off x="5363640" y="1916280"/>
            <a:ext cx="1079640" cy="0"/>
          </a:xfrm>
          <a:prstGeom prst="line">
            <a:avLst/>
          </a:prstGeom>
          <a:ln w="12600">
            <a:solidFill>
              <a:srgbClr val="aa30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6443640" y="2925720"/>
            <a:ext cx="1368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000"/>
                </a:solidFill>
                <a:latin typeface="Arial"/>
              </a:rPr>
              <a:t>Signal L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6732720" y="3789360"/>
            <a:ext cx="718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7093080" y="3286080"/>
            <a:ext cx="0" cy="43200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156720" y="5084640"/>
            <a:ext cx="2021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Marine Signal L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7093080" y="5516640"/>
            <a:ext cx="0" cy="649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"/>
          <p:cNvSpPr/>
          <p:nvPr/>
        </p:nvSpPr>
        <p:spPr>
          <a:xfrm>
            <a:off x="7020000" y="6237360"/>
            <a:ext cx="144360" cy="71280"/>
          </a:xfrm>
          <a:prstGeom prst="ellipse">
            <a:avLst/>
          </a:prstGeom>
          <a:solidFill>
            <a:srgbClr val="d9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ols exist for Computer Cal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4898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sure the correct illumin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void g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nd suitable lumi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nd the correct positions and numbers of lumi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sualize a scenery for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T FOR Signal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culation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835280"/>
            <a:ext cx="2952720" cy="779760"/>
          </a:xfrm>
          <a:prstGeom prst="rect">
            <a:avLst/>
          </a:prstGeom>
          <a:noFill/>
          <a:ln w="9360">
            <a:solidFill>
              <a:srgbClr val="164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metrical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road, floor, buildi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9640" y="2781360"/>
            <a:ext cx="2952720" cy="779760"/>
          </a:xfrm>
          <a:prstGeom prst="rect">
            <a:avLst/>
          </a:prstGeom>
          <a:noFill/>
          <a:ln w="9360">
            <a:solidFill>
              <a:srgbClr val="164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rfac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colour, glossiness, textu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39640" y="4356000"/>
            <a:ext cx="2952720" cy="779760"/>
          </a:xfrm>
          <a:prstGeom prst="rect">
            <a:avLst/>
          </a:prstGeom>
          <a:noFill/>
          <a:ln w="9360">
            <a:solidFill>
              <a:srgbClr val="164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uminair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intensity distribution, colou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39640" y="5435640"/>
            <a:ext cx="2952720" cy="652680"/>
          </a:xfrm>
          <a:prstGeom prst="rect">
            <a:avLst/>
          </a:prstGeom>
          <a:noFill/>
          <a:ln w="9360">
            <a:solidFill>
              <a:srgbClr val="164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uminaire number and pos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 rot="10800000">
            <a:off x="4355640" y="1837800"/>
            <a:ext cx="505080" cy="4249800"/>
          </a:xfrm>
          <a:prstGeom prst="rect">
            <a:avLst/>
          </a:prstGeom>
          <a:noFill/>
          <a:ln w="9360">
            <a:solidFill>
              <a:srgbClr val="aa3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ts val="22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3492360" y="2195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3492360" y="3132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3492360" y="4716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3492360" y="5724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651640" y="198900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lluminance E (l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651640" y="263700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uminance L (cd/m²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5651640" y="328464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formity of illum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5651640" y="393372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5651640" y="558972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4859280" y="220500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4859280" y="342900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4859280" y="4724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>
            <a:off x="4859280" y="4076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5651640" y="4581360"/>
            <a:ext cx="2736720" cy="373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6"/>
          <p:cNvSpPr/>
          <p:nvPr/>
        </p:nvSpPr>
        <p:spPr>
          <a:xfrm>
            <a:off x="4859280" y="57340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ample program: Dialu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eware for MS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d21629"/>
                </a:solidFill>
                <a:uFillTx/>
                <a:latin typeface="Arial"/>
                <a:hlinkClick r:id="rId1"/>
              </a:rPr>
              <a:t>www.dial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tional luminaire catalogues (&gt; 150 manufacture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do-Japan, Megaman-Hongkong, Nikkon-Malaysia, PAK-China, Opple-China, Pierlite-Australia, Riegens-Denmark, Indal-Spain, Lival-Finland, Artemide-Italy, Thorn-UK, Saudi-Lightning-KoSA, ASTZ-Russia, Batpa-Ukraine, GreenRay-US, IPI-Portugal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ternative European Product: Relux-Switzerland, </a:t>
            </a:r>
            <a:r>
              <a:rPr b="0" lang="de-DE" sz="1800" spc="-1" strike="noStrike" u="sng">
                <a:solidFill>
                  <a:srgbClr val="d21629"/>
                </a:solidFill>
                <a:uFillTx/>
                <a:latin typeface="Arial"/>
                <a:hlinkClick r:id="rId2"/>
              </a:rPr>
              <a:t>www.relux.b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rious programs: Visual – US, </a:t>
            </a:r>
            <a:r>
              <a:rPr b="0" lang="de-DE" sz="1800" spc="-1" strike="noStrike" u="sng">
                <a:solidFill>
                  <a:srgbClr val="d21629"/>
                </a:solidFill>
                <a:uFillTx/>
                <a:latin typeface="Arial"/>
                <a:hlinkClick r:id="rId3"/>
              </a:rPr>
              <a:t>www.visual-3d.co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50000"/>
              </a:lnSpc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opsis Light Tools -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alu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5610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1360" indent="0">
              <a:lnSpc>
                <a:spcPts val="22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ene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ign with Dia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ort 2D-Data as DXF-File and extr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ort 3D-Data as 3DS-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ts val="22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ts val="22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rfa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ct with Dia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ts val="22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ts val="22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uminai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ort LDT-File (Luminaire Data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ts val="2200"/>
              </a:lnSpc>
              <a:spcBef>
                <a:spcPts val="901"/>
              </a:spcBef>
              <a:buClr>
                <a:srgbClr val="1648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ort extended Luminaire Data Files (UDT, S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457200"/>
            <a:ext cx="67341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Step1a"/>
          <p:cNvPicPr/>
          <p:nvPr/>
        </p:nvPicPr>
        <p:blipFill>
          <a:blip r:embed="rId1"/>
          <a:stretch/>
        </p:blipFill>
        <p:spPr>
          <a:xfrm>
            <a:off x="436680" y="1628640"/>
            <a:ext cx="4135320" cy="2740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Step1b"/>
          <p:cNvPicPr/>
          <p:nvPr/>
        </p:nvPicPr>
        <p:blipFill>
          <a:blip r:embed="rId2"/>
          <a:stretch/>
        </p:blipFill>
        <p:spPr>
          <a:xfrm>
            <a:off x="3995640" y="3429000"/>
            <a:ext cx="4645080" cy="30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1:00:48Z</dcterms:created>
  <dc:creator>Hermann</dc:creator>
  <dc:description/>
  <dc:language>en-US</dc:language>
  <cp:lastModifiedBy>Lichtlabor2</cp:lastModifiedBy>
  <dcterms:modified xsi:type="dcterms:W3CDTF">2013-04-15T10:55:44Z</dcterms:modified>
  <cp:revision>604</cp:revision>
  <dc:subject/>
  <dc:title>Dayma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">
    <vt:lpwstr/>
  </property>
  <property fmtid="{D5CDD505-2E9C-101B-9397-08002B2CF9AE}" pid="3" name="Presenter">
    <vt:lpwstr/>
  </property>
  <property fmtid="{D5CDD505-2E9C-101B-9397-08002B2CF9AE}" pid="4" name="Template">
    <vt:lpwstr>WSV_template.pot</vt:lpwstr>
  </property>
</Properties>
</file>